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787-273A-4141-8F8F-836E74AB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942-962D-40E6-82D1-969246F1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274-2D08-46A8-A683-76CED58C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B89-0689-4229-B6A2-1082843D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6FAF-E7D3-4AF9-AFCA-45EB90CE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62EA-B60F-4018-BADD-3C132354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1599-9E5B-4454-BEA1-CB2F283E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CDC4-5946-4BC5-B00D-65CDD0EE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4B8-9171-4587-B4B2-3A1FAC6D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E4B1-D747-4E87-80A1-1ABCD028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1046-03E0-4F92-A6EC-D295413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370-31D2-4EDA-BF6E-C49A4E7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E5B0-83EE-4752-8D48-4FB5772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A213-6D6E-4BD6-8393-C6871AF4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531-0915-46BA-957A-2864E4C1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1FE3-CEEA-40CC-A51D-F086EE9B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26D-AD93-49A2-BB4B-A513A8E6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A0D-4C51-436A-8DD3-7615508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9BC-533C-4D27-9C0F-4D5641D4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A45-5661-4B06-9BA2-B13EEA2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FAF-614D-4BEF-9BA5-D83D7FD5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5B9-2442-4FCC-ACCC-B559216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798-5CAE-4373-BD77-5AE4D005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EA9-E617-4801-B0E9-F330CA45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3A9A-3D77-4401-A0C3-9A9A53784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5FD5-A07F-47A5-946A-23155233F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tested grammatical rule on the ACT is subject/verb and pronoun antecedent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Frag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0200" y="1981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y listened to music.  While she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y listened to music while she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ctuation 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unctu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00200" y="28191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lon – used to separate two complete thoughts.  (think peri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 – follows a complete thought and often begins a l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h – can be used for any pause. (think com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gnizing the need for adverb or ad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 or Adverb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a is an extreme gifted child, and she speaks beautiful to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a is an extremely gifted child, and she speaks beautifully to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or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Usag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did good on the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did well on the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di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to make sure idioms utilize the correct preposition.  Many words require particular pre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diom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25760" y="3428640"/>
            <a:ext cx="6400800" cy="22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stablished phrase that has a unique or special meaning that can be look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0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or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functions as a subj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m functions as an obj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Agree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25760" y="3276720"/>
            <a:ext cx="64008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tudent won’t 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n’t do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wner of the bicycl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oing to sell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or Whom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shed the c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he gave the present to whom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76160" y="2209680"/>
            <a:ext cx="635004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stroph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make a noun possessive by adding an “s,” you use an apostrop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ver use an apostrophe to make a pronoun possessive.  Pronouns have special possessive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postrophe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520" y="3276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any claims its illegal to use it’s name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any claims it’s illegal to use its name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 and Superl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wo things – use –er or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more than two things –use –est or m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Comparative/Superlative Exampl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76520" y="2590560"/>
            <a:ext cx="64260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goldfish is more smarter than your br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Never use both more or most and an e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hink vanilla is the most tastiest pudding 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00200" y="33526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or Am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– Two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– More than two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age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828800" y="2438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walk among the two sections of the class.  I will walk between the many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walk between the two sections of the class.  I will walk among the many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3047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 or Fe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word less only for uncountable thing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ngs can be counted, use fe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age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76160" y="3352320"/>
            <a:ext cx="63500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less people here tonight than las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fewer people here tonight than las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5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erb Fo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tz had just began to toast Lydia’s marshmallows when the rabbits stamped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Agree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2576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tudent won’t study, he or she won’t do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tudents won’t study, they won’t do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wner of the bicycles is going to sell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6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splaced Modifi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arling and snapping, Juanita attempted to control her pet tur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7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hifts in Pronoun Person or Numb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sters should work at the most efficient pac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8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noun Forms and Cas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00200" y="3581280"/>
            <a:ext cx="64008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and Susie anno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ents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incident with the peanut butter, Joh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never invited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ment Errors with Compound Subjects an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Agree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3047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ol gave the wrong tickets to Bob and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ol gave the wrong tickets to Bob an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nctuating Parenthetical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Parenthetical Phra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z—the last girl on the right, i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z, the last girl on the right, i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gments and Run-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Run-On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,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, but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;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. 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, unlike Sara, is a slac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3-10T18:38:24Z</dcterms:modified>
  <cp:revision>12</cp:revision>
  <dc:subject/>
  <dc:title>PowerPoint Presentation</dc:title>
</cp:coreProperties>
</file>